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0EE8-D963-4732-BE2F-DDCBE47D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56E6-05EF-4977-93C5-14955DCE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16DE-291B-4AC8-8238-0877CF09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DAA9-8E41-4A1D-81A6-29AB74B6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C9F4-935A-4028-8B54-1CAB7114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0C2-1216-4A25-B0CD-01D0C61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9529-7C3E-4C67-A920-528ACD37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F3BD-22F9-42E4-8968-E935AC2F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305D-B116-4732-B996-D4DDC93D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8AFC-6D02-4224-BF4F-0E44B234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639D-3D49-41F1-A4DF-098A0B6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91FE-6F70-4479-8E90-4B833B7F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57DD-440F-4A35-A92C-7B273DE7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A25F-2E70-4B31-8445-34049A4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E4A0-0E7E-4A92-BC84-C0B652C6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8D4C-6DA6-4B5F-9CD3-E5ECFA94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A55-F682-47E8-AAED-D4F1FFEF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F4DD-9686-46E0-B28E-A20AAAE7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BF18-7BB3-4322-BF78-E06BCB6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7194-BE39-45CB-B0A4-5DF95481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7E38-FC9F-4985-BFB1-BDA216B1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3596-B19A-4630-90F5-DF8DB40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366C-0075-4C89-B0B0-2C1B990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A5AF-DD26-45DF-8D5B-D1813B63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43B-8C15-475F-AC2B-82135E5D0E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F56D-8EC2-4725-B8DB-FB234E5023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ir, We Would See Jesus</a:t>
            </a:r>
            <a:endParaRPr b="0" lang="en-US" sz="4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Quarter 9, Lesson 7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ages 28-31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John 3:22 – 4:45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00D-6CDF-4A7C-895A-5103C5F5F3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Arriving in Galilee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 interest had already spread – John 4:43-45; Matt. 4:12-17; Mk. 1:14-15; Luke 4:14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y Galileans had seen His miracles in Jerusalem at Passov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esus’ message was “good news” that demanded heart-preparation (repentance) for the kingdom of Go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A154-1C8A-4D67-8F82-B7F0D6111C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6886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2819520" y="2666880"/>
            <a:ext cx="152280" cy="533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esus moves into the great Galilean min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AD2E-B233-4644-8274-BD0FA81221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Life of Christ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par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ptis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mpt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rst Discipl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rst Mira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rst Passov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In Jude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John Imprison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Woman at Wel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937-D957-4809-B9B2-7C6A56EED9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In Judea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esus preached in the countryside of Judea – John 3:22-2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ohn’s testimony regarding Jesus – 3:25-3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am not the Christ, but I am sent before Him”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hn is merely the friend of the central figure (bridegroom), Jesu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sus must become greater while John’s role diminish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06CD-3602-4C80-A923-3CB14314CC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24280" cy="6886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4120" y="685800"/>
            <a:ext cx="3124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ct location of Aenon is 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t is thought to be on the Perea side of the Jordan where “springs” join toge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76360" y="2971800"/>
            <a:ext cx="281916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05720" y="25909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6216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dern Salim water p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4267440" cy="2946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8057-2532-4560-ADB2-FB117F1083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John Imprisoned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rod Antipas had no right to be married to Herodias (his brother Philip’s wife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hn was courageous enough to tell the couple what they did not want to he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otential for all men to repent was worth the ris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otential to save Herod from sin and influence others for good was worth the ris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ohn was imprisoned for telling the truth – Matt. 14:1-5; Luke 3:19-2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4A25-6307-49F7-A029-4540DEEAAF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6886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10080" y="16765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ohn was imprisoned at Machaerus, east of the Dead 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2971800"/>
            <a:ext cx="243828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6A76-4B56-4A1B-9ECE-C18BFEEEF3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Jesus Leaves Judea For Samaria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esus’ growing popularity in baptizing more disciples than John raised concerns among the Pharise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 was not time for Jesus to be taken prisoner like Joh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 was time to share the potential for living water with the despised Samaritans – John 4:1-4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D84B-D86E-40E1-BE3B-7F1534B257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6886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10080" y="16765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esus went to Sychar, a city of Sa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819160" y="3352680"/>
            <a:ext cx="53316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4496040" cy="34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29200" y="3124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View of Samar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approaching from S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329-B113-45FA-8590-2DA8FAFFC9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Tahoma"/>
              </a:rPr>
              <a:t>Opening A Door For Living Water In Samaria</a:t>
            </a:r>
            <a:endParaRPr b="0" lang="en-US" sz="3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ginning with a woman at Jacob’s wel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lling again the kind of heart that God is looking f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lling what all men of all nations should be looking f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y Samaritans believed Jesus to be  the Saviour of the worl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8828-6F8A-473E-BBB2-4F1460F1AD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3:00:45Z</dcterms:created>
  <dc:creator>Terry W. Benton</dc:creator>
  <dc:description/>
  <dc:language>en-US</dc:language>
  <cp:lastModifiedBy>Frank D Vines</cp:lastModifiedBy>
  <dcterms:modified xsi:type="dcterms:W3CDTF">2006-07-30T13:39:04Z</dcterms:modified>
  <cp:revision>13</cp:revision>
  <dc:subject/>
  <dc:title>Sir, We Would See Jesus</dc:title>
</cp:coreProperties>
</file>